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A74-62BB-44DB-9A18-FC68162A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1810-0022-4C1C-81C0-BB79B067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5D6-91F0-4C1D-8624-3FA8C40A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CFE-F168-4025-89C0-F23A7030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5DB-B8EC-4CC6-B357-870350B3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75E-5741-4810-A1CA-664D16A6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63D0-D2A3-4BD7-B6DE-6EBB7726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1A6-4AAD-4EDF-98A7-8DA17011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D7D-D386-4B89-995D-B8B45D5C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68B-E4F7-48F1-AF76-62CC7C8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790-B188-4827-9463-618BECA6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8B5C-E2AE-4202-8924-4CD96271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EDF1-F760-404F-BC48-B7D84775B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3141720" cy="3252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2028960" cy="2651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12193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oper Black"/>
              </a:rPr>
              <a:t>THE BUSINE$$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343400" y="2666880"/>
            <a:ext cx="354348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CELL</a:t>
            </a:r>
            <a:endParaRPr b="0" lang="en-US" sz="9600" spc="1" strike="noStrike">
              <a:ln w="22320">
                <a:solidFill>
                  <a:srgbClr val="0000ff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 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1473480" cy="14097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oper Black"/>
              </a:rPr>
              <a:t>THE BUSINE$$ OF THE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001880" cy="1309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1447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 is like the Chief Executiv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590920"/>
            <a:ext cx="8381880" cy="3886200"/>
            <a:chOff x="457200" y="2590920"/>
            <a:chExt cx="8381880" cy="3886200"/>
          </a:xfrm>
        </p:grpSpPr>
        <p:sp>
          <p:nvSpPr>
            <p:cNvPr id="51" name=""/>
            <p:cNvSpPr/>
            <p:nvPr/>
          </p:nvSpPr>
          <p:spPr>
            <a:xfrm>
              <a:off x="457200" y="2590920"/>
              <a:ext cx="586728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24080" y="2590920"/>
              <a:ext cx="571500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990720" y="2286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Nucleus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286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the CEO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2860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re they the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2895480"/>
            <a:ext cx="3124440" cy="38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oth control their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 “brains of the opera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hold the plan for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them nothing 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essential for all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168560" cy="1140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886200"/>
            <a:ext cx="236232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to communicate to the outsid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meetings and listens to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ange the company based on needs to surv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3962520"/>
            <a:ext cx="2590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deals with things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all decisions for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not adap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971800" y="914400"/>
            <a:ext cx="2362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mpl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1473480" cy="14097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oper Black"/>
              </a:rPr>
              <a:t>THE BUSINE$$ OF THE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001880" cy="1309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1447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 is like the Chief Executiv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" y="2590920"/>
            <a:ext cx="8381880" cy="3886200"/>
            <a:chOff x="457200" y="2590920"/>
            <a:chExt cx="8381880" cy="3886200"/>
          </a:xfrm>
        </p:grpSpPr>
        <p:sp>
          <p:nvSpPr>
            <p:cNvPr id="66" name=""/>
            <p:cNvSpPr/>
            <p:nvPr/>
          </p:nvSpPr>
          <p:spPr>
            <a:xfrm>
              <a:off x="457200" y="2590920"/>
              <a:ext cx="586728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24080" y="2590920"/>
              <a:ext cx="571500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90720" y="2286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Nucleus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2286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the CEO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22860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re they the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2895480"/>
            <a:ext cx="3124440" cy="29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 “brains of the opera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hold the plan for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out them nothing 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168560" cy="1140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00800" y="3886200"/>
            <a:ext cx="236232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to communicate to the outsid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mee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company ba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962520"/>
            <a:ext cx="2590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deals with things inter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all decisions for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00400" y="1676520"/>
            <a:ext cx="24382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fici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1473480" cy="14097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oper Black"/>
              </a:rPr>
              <a:t>THE BUSINE$$ OF THE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772400" y="228600"/>
            <a:ext cx="1001880" cy="1309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1447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US is like the Chief Executive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57200" y="2590920"/>
            <a:ext cx="8381880" cy="3886200"/>
            <a:chOff x="457200" y="2590920"/>
            <a:chExt cx="8381880" cy="3886200"/>
          </a:xfrm>
        </p:grpSpPr>
        <p:sp>
          <p:nvSpPr>
            <p:cNvPr id="81" name=""/>
            <p:cNvSpPr/>
            <p:nvPr/>
          </p:nvSpPr>
          <p:spPr>
            <a:xfrm>
              <a:off x="457200" y="2590920"/>
              <a:ext cx="586728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24080" y="2590920"/>
              <a:ext cx="571500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990720" y="2286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Nucleus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22860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the CEO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22860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re they the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2895480"/>
            <a:ext cx="3124440" cy="33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oth control their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are  “brains of the opera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3886200"/>
            <a:ext cx="2362320" cy="7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962520"/>
            <a:ext cx="2590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all decisions for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8120" y="1676520"/>
            <a:ext cx="2819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comple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Cooper Black"/>
              </a:rPr>
              <a:t>THE BUSINE$$ OF THE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01880" cy="130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62120" y="1447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2590920"/>
            <a:ext cx="8381880" cy="3886200"/>
            <a:chOff x="457200" y="2590920"/>
            <a:chExt cx="8381880" cy="3886200"/>
          </a:xfrm>
        </p:grpSpPr>
        <p:sp>
          <p:nvSpPr>
            <p:cNvPr id="94" name=""/>
            <p:cNvSpPr/>
            <p:nvPr/>
          </p:nvSpPr>
          <p:spPr>
            <a:xfrm>
              <a:off x="457200" y="2590920"/>
              <a:ext cx="586728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24080" y="2590920"/>
              <a:ext cx="5715000" cy="3886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990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?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2860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is the ? 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2860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are they the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14600" y="2133720"/>
            <a:ext cx="46483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ample of Templet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15:50Z</dcterms:created>
  <dc:creator>Century High School</dc:creator>
  <dc:description/>
  <dc:language>en-US</dc:language>
  <cp:lastModifiedBy>Ruth Abatzoglou</cp:lastModifiedBy>
  <dcterms:modified xsi:type="dcterms:W3CDTF">2009-06-19T20:51:14Z</dcterms:modified>
  <cp:revision>7</cp:revision>
  <dc:subject/>
  <dc:title>PowerPoint Presentation</dc:title>
</cp:coreProperties>
</file>